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92F7-B8DC-4030-BAEA-E871C4826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211D-6AF0-455C-8468-DC1CEBA5F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B9A2-1A75-40F5-A25E-F96537B0B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6DD8-2C14-4EAC-87C7-DAB836A0E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B457-192B-4777-8255-0F787494D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654C-574A-40E3-960B-A6D1ECFBE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ED5C-DF6B-4059-A051-61A045D6F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DAD7-8981-4D80-A9BD-A22D2583E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1E04-C83D-460E-8C62-A3285B892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017B-C49D-4DD4-843D-00D5F369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43A1-4CF1-44FF-A9B4-7CCE71FA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4B98-187A-4C95-8689-3285B1C3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ADA0-B9E0-4F91-934D-06F58716A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EBFC-1BDA-40AF-A0BB-4B3E0A24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43AB-B70B-4BC0-9A5F-FB51CE68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763B-95EB-433D-9E70-F024E06A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7958-CC58-4DA4-8969-E61D2243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BE1D-F7B4-45A2-AC94-3B5D4152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FF48-CDE2-46FE-B8FA-6BD252B4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E077-4C6D-4263-912F-ADF46C23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52B6-747E-47C0-BA5E-81498C55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C31D-2ED7-4F6D-924F-EEEFA8E4F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PcnCWZP7l0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Energy in the Water Cy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Indentify types of energy and energy transformations associated with movement and/or change of mat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10" name="Rectangle 3" descr=""/>
          <p:cNvPicPr/>
          <p:nvPr/>
        </p:nvPicPr>
        <p:blipFill>
          <a:blip r:embed="rId1"/>
          <a:stretch/>
        </p:blipFill>
        <p:spPr>
          <a:xfrm>
            <a:off x="378000" y="1212840"/>
            <a:ext cx="85406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. Gravitational energy, thermal energy, and/or chemical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 energy 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drive all movement and change of matter on Ea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2. A system is in 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 when energy in the system is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4. 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Energy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 is needed to break bonds and is released when bonds fo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5. 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Temperature 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is a measure of the movement of molecules. Higher temperature means molecules are moving faster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netic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energy a body has due to its mov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tenti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The energy stored in a body due to its position or arrangement of its parts. Potential energy is converted into kinetic energy when matter moves or chemical energy when matter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vitational energ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ergy that draws objects together.  On earth most gravitational energy is due to the attraction between the earth and other obje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mal energ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ergy of a body that results from the movement of molecules within the bod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energy that is due to the arrangement of atoms and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Temperatur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0" y="122544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mpera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he average kinetic energy of molecules. This is also known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m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Q. Do molecules move faster in cold or warm a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Molecules move faster in warm air because they have more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5181480" y="633420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aviamet.gr/user_images/molecules1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molecules1.jpg"/>
          <p:cNvPicPr/>
          <p:nvPr/>
        </p:nvPicPr>
        <p:blipFill>
          <a:blip r:embed="rId1"/>
          <a:stretch/>
        </p:blipFill>
        <p:spPr>
          <a:xfrm>
            <a:off x="4419720" y="1523880"/>
            <a:ext cx="45720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Phase Chang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1219320" y="63532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kentchemistry.com/images/links/matter/HeatCool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HeatCool.gif"/>
          <p:cNvPicPr/>
          <p:nvPr/>
        </p:nvPicPr>
        <p:blipFill>
          <a:blip r:embed="rId1"/>
          <a:stretch/>
        </p:blipFill>
        <p:spPr>
          <a:xfrm>
            <a:off x="1143000" y="1117440"/>
            <a:ext cx="6730920" cy="46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ion: Latent He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ent heat is the energy stored during a phase change.  This video demonstrates how the process of freezing releases he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youtube.com/watch?v=1PcnCWZP7l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6" name="Picture 6" descr="watercyclesummary.jpg"/>
          <p:cNvPicPr/>
          <p:nvPr/>
        </p:nvPicPr>
        <p:blipFill>
          <a:blip r:embed="rId1"/>
          <a:stretch/>
        </p:blipFill>
        <p:spPr>
          <a:xfrm>
            <a:off x="457200" y="762120"/>
            <a:ext cx="830592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7391520" y="914400"/>
            <a:ext cx="17524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lude the process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a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cipi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un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den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il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dentify and label the types of energy being transferred for each proc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15840" y="838080"/>
            <a:ext cx="7451640" cy="5627880"/>
            <a:chOff x="15840" y="838080"/>
            <a:chExt cx="7451640" cy="5627880"/>
          </a:xfrm>
        </p:grpSpPr>
        <p:sp>
          <p:nvSpPr>
            <p:cNvPr id="70" name="Freeform 5"/>
            <p:cNvSpPr/>
            <p:nvPr/>
          </p:nvSpPr>
          <p:spPr>
            <a:xfrm>
              <a:off x="15840" y="4041720"/>
              <a:ext cx="7293600" cy="242424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6"/>
            <p:cNvSpPr/>
            <p:nvPr/>
          </p:nvSpPr>
          <p:spPr>
            <a:xfrm>
              <a:off x="3505680" y="4696200"/>
              <a:ext cx="3961800" cy="21312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Group 7"/>
            <p:cNvGrpSpPr/>
            <p:nvPr/>
          </p:nvGrpSpPr>
          <p:grpSpPr>
            <a:xfrm>
              <a:off x="6496560" y="5324400"/>
              <a:ext cx="372600" cy="198360"/>
              <a:chOff x="6496560" y="5324400"/>
              <a:chExt cx="372600" cy="198360"/>
            </a:xfrm>
          </p:grpSpPr>
          <p:sp>
            <p:nvSpPr>
              <p:cNvPr id="73" name="Straight Connector 42"/>
              <p:cNvSpPr/>
              <p:nvPr/>
            </p:nvSpPr>
            <p:spPr>
              <a:xfrm flipH="1">
                <a:off x="6868800" y="5335560"/>
                <a:ext cx="360" cy="175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43"/>
              <p:cNvSpPr/>
              <p:nvPr/>
            </p:nvSpPr>
            <p:spPr>
              <a:xfrm>
                <a:off x="6496560" y="5324400"/>
                <a:ext cx="372600" cy="198360"/>
              </a:xfrm>
              <a:prstGeom prst="pi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80808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Group 8"/>
            <p:cNvGrpSpPr/>
            <p:nvPr/>
          </p:nvGrpSpPr>
          <p:grpSpPr>
            <a:xfrm>
              <a:off x="6683400" y="5664240"/>
              <a:ext cx="372600" cy="198360"/>
              <a:chOff x="6683400" y="5664240"/>
              <a:chExt cx="372600" cy="198360"/>
            </a:xfrm>
          </p:grpSpPr>
          <p:sp>
            <p:nvSpPr>
              <p:cNvPr id="76" name="Straight Connector 40"/>
              <p:cNvSpPr/>
              <p:nvPr/>
            </p:nvSpPr>
            <p:spPr>
              <a:xfrm flipH="1">
                <a:off x="7055640" y="5675400"/>
                <a:ext cx="360" cy="175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41"/>
              <p:cNvSpPr/>
              <p:nvPr/>
            </p:nvSpPr>
            <p:spPr>
              <a:xfrm>
                <a:off x="6683400" y="5664240"/>
                <a:ext cx="372600" cy="198360"/>
              </a:xfrm>
              <a:prstGeom prst="pi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80808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Group 9"/>
            <p:cNvGrpSpPr/>
            <p:nvPr/>
          </p:nvGrpSpPr>
          <p:grpSpPr>
            <a:xfrm>
              <a:off x="6935400" y="5125680"/>
              <a:ext cx="372600" cy="198360"/>
              <a:chOff x="6935400" y="5125680"/>
              <a:chExt cx="372600" cy="198360"/>
            </a:xfrm>
          </p:grpSpPr>
          <p:sp>
            <p:nvSpPr>
              <p:cNvPr id="79" name="Straight Connector 38"/>
              <p:cNvSpPr/>
              <p:nvPr/>
            </p:nvSpPr>
            <p:spPr>
              <a:xfrm flipH="1">
                <a:off x="7307640" y="5136840"/>
                <a:ext cx="360" cy="175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39"/>
              <p:cNvSpPr/>
              <p:nvPr/>
            </p:nvSpPr>
            <p:spPr>
              <a:xfrm>
                <a:off x="6935400" y="5125680"/>
                <a:ext cx="372600" cy="198360"/>
              </a:xfrm>
              <a:prstGeom prst="pi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80808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Group 10"/>
            <p:cNvGrpSpPr/>
            <p:nvPr/>
          </p:nvGrpSpPr>
          <p:grpSpPr>
            <a:xfrm>
              <a:off x="1511280" y="3639240"/>
              <a:ext cx="369000" cy="555480"/>
              <a:chOff x="1511280" y="3639240"/>
              <a:chExt cx="369000" cy="555480"/>
            </a:xfrm>
          </p:grpSpPr>
          <p:sp>
            <p:nvSpPr>
              <p:cNvPr id="82" name="Straight Connector 35"/>
              <p:cNvSpPr/>
              <p:nvPr/>
            </p:nvSpPr>
            <p:spPr>
              <a:xfrm flipH="1">
                <a:off x="1755360" y="3956760"/>
                <a:ext cx="1080" cy="237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Straight Connector 36"/>
              <p:cNvSpPr/>
              <p:nvPr/>
            </p:nvSpPr>
            <p:spPr>
              <a:xfrm flipH="1">
                <a:off x="1632600" y="3956760"/>
                <a:ext cx="1080" cy="237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Cloud 37"/>
              <p:cNvSpPr/>
              <p:nvPr/>
            </p:nvSpPr>
            <p:spPr>
              <a:xfrm>
                <a:off x="1511280" y="3639240"/>
                <a:ext cx="369000" cy="349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Group 11"/>
            <p:cNvGrpSpPr/>
            <p:nvPr/>
          </p:nvGrpSpPr>
          <p:grpSpPr>
            <a:xfrm>
              <a:off x="1075320" y="3700800"/>
              <a:ext cx="369000" cy="555480"/>
              <a:chOff x="1075320" y="3700800"/>
              <a:chExt cx="369000" cy="555480"/>
            </a:xfrm>
          </p:grpSpPr>
          <p:sp>
            <p:nvSpPr>
              <p:cNvPr id="86" name="Straight Connector 32"/>
              <p:cNvSpPr/>
              <p:nvPr/>
            </p:nvSpPr>
            <p:spPr>
              <a:xfrm flipH="1">
                <a:off x="1319400" y="4018320"/>
                <a:ext cx="1080" cy="237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Straight Connector 33"/>
              <p:cNvSpPr/>
              <p:nvPr/>
            </p:nvSpPr>
            <p:spPr>
              <a:xfrm flipH="1">
                <a:off x="1196640" y="4018320"/>
                <a:ext cx="1080" cy="237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Cloud 34"/>
              <p:cNvSpPr/>
              <p:nvPr/>
            </p:nvSpPr>
            <p:spPr>
              <a:xfrm>
                <a:off x="1075320" y="3700800"/>
                <a:ext cx="369000" cy="349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Group 12"/>
            <p:cNvGrpSpPr/>
            <p:nvPr/>
          </p:nvGrpSpPr>
          <p:grpSpPr>
            <a:xfrm>
              <a:off x="1571400" y="4194360"/>
              <a:ext cx="369000" cy="555480"/>
              <a:chOff x="1571400" y="4194360"/>
              <a:chExt cx="369000" cy="555480"/>
            </a:xfrm>
          </p:grpSpPr>
          <p:sp>
            <p:nvSpPr>
              <p:cNvPr id="90" name="Straight Connector 29"/>
              <p:cNvSpPr/>
              <p:nvPr/>
            </p:nvSpPr>
            <p:spPr>
              <a:xfrm flipH="1">
                <a:off x="1815480" y="4511880"/>
                <a:ext cx="1080" cy="237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Straight Connector 30"/>
              <p:cNvSpPr/>
              <p:nvPr/>
            </p:nvSpPr>
            <p:spPr>
              <a:xfrm flipH="1">
                <a:off x="1692720" y="4511880"/>
                <a:ext cx="1080" cy="237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Cloud 31"/>
              <p:cNvSpPr/>
              <p:nvPr/>
            </p:nvSpPr>
            <p:spPr>
              <a:xfrm>
                <a:off x="1571400" y="4194360"/>
                <a:ext cx="369000" cy="349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Group 13"/>
            <p:cNvGrpSpPr/>
            <p:nvPr/>
          </p:nvGrpSpPr>
          <p:grpSpPr>
            <a:xfrm>
              <a:off x="1015200" y="4353840"/>
              <a:ext cx="369000" cy="555480"/>
              <a:chOff x="1015200" y="4353840"/>
              <a:chExt cx="369000" cy="555480"/>
            </a:xfrm>
          </p:grpSpPr>
          <p:sp>
            <p:nvSpPr>
              <p:cNvPr id="94" name="Straight Connector 26"/>
              <p:cNvSpPr/>
              <p:nvPr/>
            </p:nvSpPr>
            <p:spPr>
              <a:xfrm flipH="1">
                <a:off x="1259280" y="4671360"/>
                <a:ext cx="1080" cy="237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Straight Connector 27"/>
              <p:cNvSpPr/>
              <p:nvPr/>
            </p:nvSpPr>
            <p:spPr>
              <a:xfrm flipH="1">
                <a:off x="1136520" y="4671360"/>
                <a:ext cx="1080" cy="237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Cloud 28"/>
              <p:cNvSpPr/>
              <p:nvPr/>
            </p:nvSpPr>
            <p:spPr>
              <a:xfrm>
                <a:off x="1015200" y="4353840"/>
                <a:ext cx="369000" cy="349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14"/>
            <p:cNvGrpSpPr/>
            <p:nvPr/>
          </p:nvGrpSpPr>
          <p:grpSpPr>
            <a:xfrm>
              <a:off x="2003400" y="3700080"/>
              <a:ext cx="369000" cy="555480"/>
              <a:chOff x="2003400" y="3700080"/>
              <a:chExt cx="369000" cy="555480"/>
            </a:xfrm>
          </p:grpSpPr>
          <p:sp>
            <p:nvSpPr>
              <p:cNvPr id="98" name="Straight Connector 23"/>
              <p:cNvSpPr/>
              <p:nvPr/>
            </p:nvSpPr>
            <p:spPr>
              <a:xfrm flipH="1">
                <a:off x="2247480" y="4017600"/>
                <a:ext cx="1080" cy="237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Straight Connector 24"/>
              <p:cNvSpPr/>
              <p:nvPr/>
            </p:nvSpPr>
            <p:spPr>
              <a:xfrm flipH="1">
                <a:off x="2124720" y="4017600"/>
                <a:ext cx="1080" cy="237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Cloud 25"/>
              <p:cNvSpPr/>
              <p:nvPr/>
            </p:nvSpPr>
            <p:spPr>
              <a:xfrm>
                <a:off x="2003400" y="3700080"/>
                <a:ext cx="369000" cy="349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Cloud 15"/>
            <p:cNvSpPr/>
            <p:nvPr/>
          </p:nvSpPr>
          <p:spPr>
            <a:xfrm>
              <a:off x="919080" y="1261440"/>
              <a:ext cx="1184760" cy="635400"/>
            </a:xfrm>
            <a:prstGeom prst="pie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Cloud 16"/>
            <p:cNvSpPr/>
            <p:nvPr/>
          </p:nvSpPr>
          <p:spPr>
            <a:xfrm>
              <a:off x="2503800" y="1049760"/>
              <a:ext cx="1620360" cy="705960"/>
            </a:xfrm>
            <a:prstGeom prst="pie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Cloud 17"/>
            <p:cNvSpPr/>
            <p:nvPr/>
          </p:nvSpPr>
          <p:spPr>
            <a:xfrm>
              <a:off x="1755720" y="2073600"/>
              <a:ext cx="1558080" cy="35280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Sun 18"/>
            <p:cNvSpPr/>
            <p:nvPr/>
          </p:nvSpPr>
          <p:spPr>
            <a:xfrm>
              <a:off x="6188400" y="838080"/>
              <a:ext cx="747720" cy="847080"/>
            </a:xfrm>
            <a:prstGeom prst="sun">
              <a:avLst>
                <a:gd name="adj" fmla="val 25000"/>
              </a:avLst>
            </a:prstGeom>
            <a:solidFill>
              <a:srgbClr val="a6a6a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Group 19"/>
            <p:cNvGrpSpPr/>
            <p:nvPr/>
          </p:nvGrpSpPr>
          <p:grpSpPr>
            <a:xfrm>
              <a:off x="646200" y="3978000"/>
              <a:ext cx="369000" cy="555480"/>
              <a:chOff x="646200" y="3978000"/>
              <a:chExt cx="369000" cy="555480"/>
            </a:xfrm>
          </p:grpSpPr>
          <p:sp>
            <p:nvSpPr>
              <p:cNvPr id="106" name="Straight Connector 20"/>
              <p:cNvSpPr/>
              <p:nvPr/>
            </p:nvSpPr>
            <p:spPr>
              <a:xfrm flipH="1">
                <a:off x="890280" y="4295520"/>
                <a:ext cx="1080" cy="237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Straight Connector 21"/>
              <p:cNvSpPr/>
              <p:nvPr/>
            </p:nvSpPr>
            <p:spPr>
              <a:xfrm flipH="1">
                <a:off x="767520" y="4295520"/>
                <a:ext cx="1080" cy="237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Cloud 22"/>
              <p:cNvSpPr/>
              <p:nvPr/>
            </p:nvSpPr>
            <p:spPr>
              <a:xfrm>
                <a:off x="646200" y="3978000"/>
                <a:ext cx="369000" cy="349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0T15:46:14Z</dcterms:created>
  <dc:creator>Julie Libarkin</dc:creator>
  <dc:description/>
  <dc:language>en-US</dc:language>
  <cp:lastModifiedBy>Nicole LaDue</cp:lastModifiedBy>
  <dcterms:modified xsi:type="dcterms:W3CDTF">2011-01-12T20:52:31Z</dcterms:modified>
  <cp:revision>304</cp:revision>
  <dc:subject/>
  <dc:title>PowerPoint Presentation</dc:title>
</cp:coreProperties>
</file>